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359-8687-490A-9DEB-DA3317D3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349-5961-4236-A296-C6BD2E6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8A2-D63C-44BE-857D-B62BC81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EF9-5905-456F-B547-87EA0AE3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290-35F4-4046-8B18-34053745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113D-7249-4F1A-8978-5C1EFEDA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F3BF-7229-4190-9C1E-70CB5013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F6F0-C602-42A0-BE5A-296298AF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EB1-F304-4757-8784-16C36F02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FDA9-8658-47ED-B915-53163799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D43A-F9A8-45F8-B260-F50D60F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9D9-59E1-42C4-A448-9D7D9413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ABB7-CB0E-4D5C-A68B-224ABFA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CF89-34DD-4DBB-B4BD-18844F3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6ED2-9043-43EC-8C8F-7735ECC6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6E07-6AA6-4E00-886D-B555599A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671E-B875-47EC-9B57-96A45053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8F4-CC68-44FF-BDCF-DDCBCE68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9B3-9398-4F1C-ACFE-57CFDF2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D81-CDFE-4505-9E25-FAA56E4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28A-7BE2-40F4-96AF-8242913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C91-4992-4E66-BE40-97D1C8F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0D0-726D-4E8C-9F6A-8F8D395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81C-9790-4EB1-95AC-2F3EFA1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742D-1D26-4D39-98C9-0397776FA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C998-4107-43E5-BE6C-93EB1F13B8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ин..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н..р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трен..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в..лик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х..рош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ф..олетовый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св..рк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р..сов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ж..л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367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иней       великий       сверк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народ     хороший      рисов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тренер   фиолетовый  жел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Narrow"/>
              </a:rPr>
              <a:t>Орфографическая 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94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мить 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ёнку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д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я м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ко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в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ъ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бный гри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б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ё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ый гру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ут руч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44:13Z</dcterms:created>
  <dc:creator>Admin</dc:creator>
  <dc:description/>
  <dc:language>en-US</dc:language>
  <cp:lastModifiedBy>Светлана</cp:lastModifiedBy>
  <dcterms:modified xsi:type="dcterms:W3CDTF">2012-03-19T05:35:34Z</dcterms:modified>
  <cp:revision>3</cp:revision>
  <dc:subject/>
  <dc:title>Словарная работа</dc:title>
</cp:coreProperties>
</file>